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AE56-90D0-4BD9-9B6E-006B41861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FF73-419F-4630-94AE-AA93EBD1F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98E2-F860-40FC-8486-0EA37D02A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29F5-6AAB-49E4-9CF3-2528EBDDF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6EB9-F093-4273-836F-5F74E58E0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7A06-FBD8-4F59-BCF3-E7FE1A773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1D56-B482-4212-85FF-90234837D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E43B-8733-493C-BFE7-C6CC67CF5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659C-80D4-4334-BA9C-67DBA7BED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50D7-96B1-4D62-B9E5-65BE826A9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8C78-AC4D-4F29-A8D9-3A8566BDB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F24F-EE48-4788-A6B2-DA5253840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6786A-3C27-4948-BEAA-EAA47BAB1B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1523880" y="-1143000"/>
            <a:ext cx="12191760" cy="9144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Captioned Photos of Blanket Construc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By Ja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-1523880" y="-1143000"/>
            <a:ext cx="12191760" cy="9144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752480" y="5791320"/>
            <a:ext cx="556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nd The finished second time around. (The blanket is on a chai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905120" y="6172200"/>
            <a:ext cx="556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752480" y="5181480"/>
            <a:ext cx="556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This part of the blanket was done by Mrs. McFadden while showing me how to croch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-1523880" y="-1143000"/>
            <a:ext cx="12191760" cy="9144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905120" y="6172200"/>
            <a:ext cx="556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This next bit is hard to see due to poor photography skills, but it shows the overly-tight stitches I made when I started crocheting on my ow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-1523880" y="-1143000"/>
            <a:ext cx="12191760" cy="9144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905120" y="6172200"/>
            <a:ext cx="556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057400" y="6324480"/>
            <a:ext cx="556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These are some of my better made stitches once I figured out how to crochet we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-1523880" y="-1143000"/>
            <a:ext cx="12191760" cy="9144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905120" y="6172200"/>
            <a:ext cx="556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52480" y="5791320"/>
            <a:ext cx="5562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905120" y="5943600"/>
            <a:ext cx="556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My stitches rounding a corner with a book in the backgroun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-1523880" y="-1143000"/>
            <a:ext cx="12191760" cy="9144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752480" y="5791320"/>
            <a:ext cx="556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Bluury, but showing the end of the first time around the blanket. Halfway don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-1523880" y="-1143000"/>
            <a:ext cx="12191760" cy="9144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752480" y="5791320"/>
            <a:ext cx="556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One time around d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-1523880" y="-1143000"/>
            <a:ext cx="12191760" cy="9144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752480" y="5791320"/>
            <a:ext cx="556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If it weren’t so blurry it would show some of my two-layer stitch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-1523880" y="-1143000"/>
            <a:ext cx="12191760" cy="9144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752480" y="5791320"/>
            <a:ext cx="556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My blanket, held down with some boxes and a book because it has a tendency to curl when laid out fully. It is finally done thoug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16:56:51Z</dcterms:created>
  <dc:creator> </dc:creator>
  <dc:description/>
  <dc:language>en-US</dc:language>
  <cp:lastModifiedBy> </cp:lastModifiedBy>
  <dcterms:modified xsi:type="dcterms:W3CDTF">2009-02-15T16:59:53Z</dcterms:modified>
  <cp:revision>3</cp:revision>
  <dc:subject/>
  <dc:title>Captioned Photos of Blanket Construction.</dc:title>
</cp:coreProperties>
</file>